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ffffff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0160" y="388800"/>
            <a:ext cx="11702520" cy="162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50160" y="2282040"/>
            <a:ext cx="11702520" cy="56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83520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25316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67112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2089080" indent="-5371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506680" indent="-53676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506680" indent="-536760">
              <a:spcBef>
                <a:spcPts val="104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269720" y="1066320"/>
            <a:ext cx="10464840" cy="1016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Gill Sans"/>
              </a:rPr>
              <a:t>The Reformation</a:t>
            </a:r>
            <a:endParaRPr b="0" lang="en-US" sz="48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5969160" y="2425680"/>
            <a:ext cx="6032520" cy="854712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165240" y="3994200"/>
            <a:ext cx="6680160" cy="13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Martin Luther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trouble maker :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"/>
          <p:cNvSpPr/>
          <p:nvPr/>
        </p:nvSpPr>
        <p:spPr>
          <a:xfrm>
            <a:off x="2889000" y="7585560"/>
            <a:ext cx="12200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1517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1244520" y="1434960"/>
            <a:ext cx="9614160" cy="760752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3936960" y="9330480"/>
            <a:ext cx="4432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Delacroix, </a:t>
            </a:r>
            <a:r>
              <a:rPr b="0" i="1" lang="en-US" sz="1800" spc="-1" strike="noStrike">
                <a:solidFill>
                  <a:srgbClr val="000000"/>
                </a:solidFill>
                <a:latin typeface="Gill Sans"/>
                <a:ea typeface="Gill Sans"/>
              </a:rPr>
              <a:t>Liberty Leading the People, 1830</a:t>
            </a:r>
            <a:endParaRPr b="0" lang="en-US" sz="18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Realism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229280" y="2006280"/>
            <a:ext cx="4533840" cy="1816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6000"/>
          </a:bodyPr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common everyday world; peasants, farmer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53200" indent="-5482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glorification of working clas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795240" y="3936960"/>
            <a:ext cx="7345440" cy="549900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8201160" y="5954760"/>
            <a:ext cx="40593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Millet, </a:t>
            </a:r>
            <a:r>
              <a:rPr b="0" i="1" lang="en-US" sz="3600" spc="-1" strike="noStrike">
                <a:solidFill>
                  <a:srgbClr val="000000"/>
                </a:solidFill>
                <a:latin typeface="Gill Sans"/>
                <a:ea typeface="Gill Sans"/>
              </a:rPr>
              <a:t>The Gleaners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1749600" y="1498680"/>
            <a:ext cx="9502560" cy="67564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3729600" y="8713080"/>
            <a:ext cx="55328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Daumier, </a:t>
            </a:r>
            <a:r>
              <a:rPr b="0" i="1" lang="en-US" sz="2400" spc="-1" strike="noStrike">
                <a:solidFill>
                  <a:srgbClr val="000000"/>
                </a:solidFill>
                <a:latin typeface="Gill Sans"/>
                <a:ea typeface="Gill Sans"/>
              </a:rPr>
              <a:t>The Third Class Carriage, 1862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574640" y="202680"/>
            <a:ext cx="9652320" cy="9781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Baroque (1600’s)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1" name=""/>
          <p:cNvSpPr/>
          <p:nvPr/>
        </p:nvSpPr>
        <p:spPr>
          <a:xfrm>
            <a:off x="304920" y="3035160"/>
            <a:ext cx="25146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Carravagio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4216320" y="2184480"/>
            <a:ext cx="4559400" cy="686916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1240200" y="1375200"/>
            <a:ext cx="10308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  <a:ea typeface="Gill Sans"/>
              </a:rPr>
              <a:t>emotional, theatrical, dramatic, virtuosit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ffffff"/>
              </a:solidFill>
              <a:latin typeface="Gill Sans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2077920" y="2282760"/>
            <a:ext cx="9923760" cy="5397480"/>
          </a:xfrm>
          <a:prstGeom prst="rect">
            <a:avLst/>
          </a:prstGeom>
          <a:ln w="0">
            <a:noFill/>
          </a:ln>
        </p:spPr>
      </p:pic>
      <p:pic>
        <p:nvPicPr>
          <p:cNvPr id="576" name="" descr=""/>
          <p:cNvPicPr/>
          <p:nvPr/>
        </p:nvPicPr>
        <p:blipFill>
          <a:blip r:embed="rId2"/>
          <a:stretch/>
        </p:blipFill>
        <p:spPr>
          <a:xfrm>
            <a:off x="1674720" y="2286000"/>
            <a:ext cx="4054680" cy="539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3290760" y="609480"/>
            <a:ext cx="5980320" cy="807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08680" y="266400"/>
            <a:ext cx="4724280" cy="265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Roccoco, 1700s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749160" y="1003320"/>
            <a:ext cx="6438960" cy="829476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7416720" y="2552400"/>
            <a:ext cx="53085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gaiety, </a:t>
            </a:r>
            <a:r>
              <a:rPr b="0" i="1" lang="en-US" sz="4200" spc="-1" strike="noStrike">
                <a:solidFill>
                  <a:srgbClr val="000000"/>
                </a:solidFill>
                <a:latin typeface="Gill Sans"/>
              </a:rPr>
              <a:t>fête galant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i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wealth and social position of arisocrac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"/>
          <p:cNvSpPr/>
          <p:nvPr/>
        </p:nvSpPr>
        <p:spPr>
          <a:xfrm>
            <a:off x="7278840" y="9124920"/>
            <a:ext cx="19303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Gill Sans"/>
                <a:ea typeface="Gill Sans"/>
              </a:rPr>
              <a:t>Fragonard, The Swing, 1767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the1800‘s=reactions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631680" y="2717640"/>
            <a:ext cx="4953240" cy="514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Neoclassicis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omanticis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alis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Gill Sans"/>
              </a:rPr>
              <a:t>Neo Classicism</a:t>
            </a:r>
            <a:endParaRPr b="0" lang="en-US" sz="6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8242200" y="2450880"/>
            <a:ext cx="47116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811080" indent="-49356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rejection of Rococo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11080" indent="-49356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apolean and his ideas 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11080" indent="-49356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no nonsense, classical Roman influenc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  <a:p>
            <a:pPr marL="811080" indent="-493560">
              <a:lnSpc>
                <a:spcPct val="100000"/>
              </a:lnSpc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"/>
              </a:rPr>
              <a:t>allegories</a:t>
            </a:r>
            <a:endParaRPr b="0" lang="en-US" sz="24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291960" y="2430360"/>
            <a:ext cx="7772400" cy="606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52200" y="57132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Romanticism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683160" y="2590560"/>
            <a:ext cx="49910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reaction against restrictions of Neoclassicis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marL="888840" indent="-57132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emotion and individualism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1673280" y="1155600"/>
            <a:ext cx="9642600" cy="744228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5607360" y="9033480"/>
            <a:ext cx="1779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"/>
                <a:ea typeface="Gill Sans"/>
              </a:rPr>
              <a:t>Goya, Third of May, 1808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